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DAE5-9625-4592-9C20-2C89737036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don’t just multiply numbers together, these are distributions, need course notes example of how to calculate p(c=1) or something. May add some extra tutorial slides – we will need them later for stuff of Bayes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definition is adapted from the Introduction section of “Graphical Models: Foundations of Neural Computation” edited by Jordan and Sejnowski (MIT Press 20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notation is explained lat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BFA-D7CE-4BC4-B0DA-BDEC5665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1EE-A3CE-4B47-A4AA-9C47C4E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85E-F7F8-4041-A606-EB740616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774-24AD-4A92-AEEC-232FCED9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64E-BA34-44F1-9AE3-B64A5181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F29-CB5F-41A3-993A-BC7FC2B5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8C3B-30AC-4C07-B7CE-D661819D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B37-6D76-40CC-A1AE-DF26A1DA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BF2-2C6D-4FD8-A88F-6DD6C583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5F42-8987-4D9F-AC24-C6F5228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7606-12F0-4991-A796-2CAB86E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C65-55AD-4B3C-BDEF-42E6AB7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3F9-BAFC-47F5-8755-C2A49F6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6326-46BA-4017-AF77-C5902E8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85D-A52E-41AE-B06A-733B76A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E7F-1B51-4093-AFBE-77FE0644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4ACE-1083-498C-95CA-5CA9AF5D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233-2661-44E3-A529-D848FAD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C63-BE4D-4AA6-907A-EBFC8ECC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AA2-920D-4904-910D-D5F0B60C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7B8-856E-439A-8113-DEC9A81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905-22D3-4ECD-BCB7-8EA6E83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60C-A324-4329-9C00-9C929A5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439-8333-453F-BB07-B66BFCFC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E79B-7BED-4296-BC8D-0EE3298C7B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6ED-D61C-4E44-B791-1CD96AA61E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int probability – conditional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 variables are conditionally independent if one value does not depend on the other e.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3733920"/>
            <a:ext cx="99036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733920"/>
            <a:ext cx="99072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5257800"/>
            <a:ext cx="990720" cy="914400"/>
          </a:xfrm>
          <a:prstGeom prst="ellipse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4572000"/>
            <a:ext cx="325440" cy="70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68480" y="4641840"/>
            <a:ext cx="457200" cy="636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0" y="4191120"/>
                <a:ext cx="3733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⊥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if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416840" y="3352680"/>
            <a:ext cx="40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, A and B are condition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depend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320" y="472428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ut A and C and B and C are no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5334120"/>
                <a:ext cx="36338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3864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uitively, the notion of correlation (although this can be a philosophical argument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3366"/>
                </a:solidFill>
                <a:latin typeface="Symbol"/>
                <a:ea typeface="Symbol"/>
              </a:rPr>
              <a:t>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, so the values of A and B are interdepend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irected graphs can be converted into undirected graphs (but beyond the scope of this course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2895480"/>
            <a:ext cx="990360" cy="2743200"/>
            <a:chOff x="1905120" y="2895480"/>
            <a:chExt cx="990360" cy="2743200"/>
          </a:xfrm>
        </p:grpSpPr>
        <p:sp>
          <p:nvSpPr>
            <p:cNvPr id="179" name=""/>
            <p:cNvSpPr/>
            <p:nvPr/>
          </p:nvSpPr>
          <p:spPr>
            <a:xfrm>
              <a:off x="1905120" y="2895480"/>
              <a:ext cx="99036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5120" y="46483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38280" y="388620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undirected graph for a computer vision 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imagemodel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4119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58128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quares denote discrete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ircles denote continuous valued no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ear denotes hidden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aded denotes observed nod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2666880"/>
            <a:ext cx="990720" cy="3505320"/>
            <a:chOff x="1828800" y="2666880"/>
            <a:chExt cx="990720" cy="3505320"/>
          </a:xfrm>
        </p:grpSpPr>
        <p:sp>
          <p:nvSpPr>
            <p:cNvPr id="187" name=""/>
            <p:cNvSpPr/>
            <p:nvPr/>
          </p:nvSpPr>
          <p:spPr>
            <a:xfrm>
              <a:off x="1828800" y="3886200"/>
              <a:ext cx="99072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800" y="2666880"/>
              <a:ext cx="990720" cy="91440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8800" y="5181480"/>
              <a:ext cx="990720" cy="990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ling out over ti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 notation is very good at showing how models are propagated 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ose the dependencies between the different elements of the graphic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ling out our traffic light example over 2 time steps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18960" y="2895480"/>
            <a:ext cx="4115160" cy="2895480"/>
            <a:chOff x="1218960" y="2895480"/>
            <a:chExt cx="4115160" cy="2895480"/>
          </a:xfrm>
        </p:grpSpPr>
        <p:grpSp>
          <p:nvGrpSpPr>
            <p:cNvPr id="194" name=""/>
            <p:cNvGrpSpPr/>
            <p:nvPr/>
          </p:nvGrpSpPr>
          <p:grpSpPr>
            <a:xfrm>
              <a:off x="1676520" y="3200040"/>
              <a:ext cx="3657600" cy="2590920"/>
              <a:chOff x="1676520" y="3200040"/>
              <a:chExt cx="3657600" cy="2590920"/>
            </a:xfrm>
          </p:grpSpPr>
          <p:sp>
            <p:nvSpPr>
              <p:cNvPr id="195" name=""/>
              <p:cNvSpPr/>
              <p:nvPr/>
            </p:nvSpPr>
            <p:spPr>
              <a:xfrm>
                <a:off x="1764360" y="352944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64360" y="470736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64360" y="409500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76520" y="338832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4076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7288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4840" y="343548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47600" y="320004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7316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91880" y="494280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632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9367800">
                <a:off x="3526920" y="3481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597400">
                <a:off x="4775400" y="3794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91200">
                <a:off x="4452840" y="5083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4990800">
                <a:off x="3144600" y="468972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293200" y="338832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248920" y="433044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2249280" y="494280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2292840" y="381168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23560" y="413316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63080" y="411480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572280" y="452700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2249280" y="442476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34200" y="320004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218960" y="289548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2040" y="2895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638680" y="2971800"/>
            <a:ext cx="991080" cy="2819520"/>
            <a:chOff x="5638680" y="2971800"/>
            <a:chExt cx="991080" cy="2819520"/>
          </a:xfrm>
        </p:grpSpPr>
        <p:sp>
          <p:nvSpPr>
            <p:cNvPr id="223" name=""/>
            <p:cNvSpPr/>
            <p:nvPr/>
          </p:nvSpPr>
          <p:spPr>
            <a:xfrm>
              <a:off x="609588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868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868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8404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934320" y="2971800"/>
            <a:ext cx="991080" cy="2819520"/>
            <a:chOff x="6934320" y="2971800"/>
            <a:chExt cx="991080" cy="2819520"/>
          </a:xfrm>
        </p:grpSpPr>
        <p:sp>
          <p:nvSpPr>
            <p:cNvPr id="228" name=""/>
            <p:cNvSpPr/>
            <p:nvPr/>
          </p:nvSpPr>
          <p:spPr>
            <a:xfrm>
              <a:off x="739152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3432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7968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629400" y="35053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24680" y="35053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52160" y="2479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87320" y="25146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 the concept of the temporal order of a model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95280" y="2666880"/>
            <a:ext cx="2590920" cy="3311640"/>
            <a:chOff x="1295280" y="2666880"/>
            <a:chExt cx="2590920" cy="3311640"/>
          </a:xfrm>
        </p:grpSpPr>
        <p:grpSp>
          <p:nvGrpSpPr>
            <p:cNvPr id="239" name=""/>
            <p:cNvGrpSpPr/>
            <p:nvPr/>
          </p:nvGrpSpPr>
          <p:grpSpPr>
            <a:xfrm>
              <a:off x="1295280" y="3159000"/>
              <a:ext cx="991080" cy="2819520"/>
              <a:chOff x="1295280" y="3159000"/>
              <a:chExt cx="991080" cy="2819520"/>
            </a:xfrm>
          </p:grpSpPr>
          <p:sp>
            <p:nvSpPr>
              <p:cNvPr id="240" name=""/>
              <p:cNvSpPr/>
              <p:nvPr/>
            </p:nvSpPr>
            <p:spPr>
              <a:xfrm>
                <a:off x="1752480" y="41497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5280" y="4911480"/>
                <a:ext cx="99036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5280" y="3159000"/>
                <a:ext cx="99036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40640" y="34797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590920" y="3159000"/>
              <a:ext cx="991080" cy="2819520"/>
              <a:chOff x="2590920" y="3159000"/>
              <a:chExt cx="991080" cy="2819520"/>
            </a:xfrm>
          </p:grpSpPr>
          <p:sp>
            <p:nvSpPr>
              <p:cNvPr id="245" name=""/>
              <p:cNvSpPr/>
              <p:nvPr/>
            </p:nvSpPr>
            <p:spPr>
              <a:xfrm>
                <a:off x="3048120" y="41497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90920" y="4911480"/>
                <a:ext cx="99036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90920" y="3159000"/>
                <a:ext cx="99036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36280" y="34797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286000" y="36925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3692520"/>
              <a:ext cx="304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8760" y="26668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3920" y="270180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38640" y="320004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 this model, the value of the hidden nodes (and thus the observable ones) at time t+1 only depends on the previous time step 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o this is a first order temporal mod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ember the concept of the temporal order of a model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057040" y="6019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second order temporal mod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28800" y="2438280"/>
            <a:ext cx="6781320" cy="3311640"/>
            <a:chOff x="1828800" y="2438280"/>
            <a:chExt cx="6781320" cy="3311640"/>
          </a:xfrm>
        </p:grpSpPr>
        <p:sp>
          <p:nvSpPr>
            <p:cNvPr id="258" name=""/>
            <p:cNvSpPr/>
            <p:nvPr/>
          </p:nvSpPr>
          <p:spPr>
            <a:xfrm>
              <a:off x="2819160" y="34290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440" y="3429000"/>
              <a:ext cx="30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3429000"/>
              <a:ext cx="304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828800" y="2930400"/>
              <a:ext cx="990360" cy="2819520"/>
              <a:chOff x="1828800" y="2930400"/>
              <a:chExt cx="990360" cy="2819520"/>
            </a:xfrm>
          </p:grpSpPr>
          <p:sp>
            <p:nvSpPr>
              <p:cNvPr id="262" name=""/>
              <p:cNvSpPr/>
              <p:nvPr/>
            </p:nvSpPr>
            <p:spPr>
              <a:xfrm>
                <a:off x="2285640" y="39211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28800" y="468288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28800" y="293040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73440" y="32511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124080" y="2930400"/>
              <a:ext cx="990360" cy="2819520"/>
              <a:chOff x="3124080" y="2930400"/>
              <a:chExt cx="990360" cy="281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3580920" y="392112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24080" y="468288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4080" y="293040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68720" y="325116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041560" y="24382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76720" y="247320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390920" y="2927520"/>
              <a:ext cx="990360" cy="2818800"/>
              <a:chOff x="4390920" y="2927520"/>
              <a:chExt cx="990360" cy="2818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847760" y="3917880"/>
                <a:ext cx="0" cy="761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90920" y="4679640"/>
                <a:ext cx="990000" cy="106668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90920" y="2927520"/>
                <a:ext cx="990000" cy="99036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35560" y="324792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757480" y="2922480"/>
              <a:ext cx="990360" cy="2819520"/>
              <a:chOff x="5757480" y="2922480"/>
              <a:chExt cx="990360" cy="281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6214320" y="3913200"/>
                <a:ext cx="0" cy="761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57480" y="4674960"/>
                <a:ext cx="990000" cy="1067040"/>
              </a:xfrm>
              <a:prstGeom prst="rect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Arial"/>
                  </a:rPr>
                  <a:t>observab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480" y="2922480"/>
                <a:ext cx="990000" cy="99072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02120" y="324324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"/>
                  </a:rPr>
                  <a:t>hidden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648320" y="248292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35680" y="24922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t=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3886200"/>
              <a:ext cx="220932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5840" y="3886200"/>
              <a:ext cx="220968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00440" y="3886200"/>
              <a:ext cx="2209680" cy="279360"/>
            </a:xfrm>
            <a:custGeom>
              <a:avLst/>
              <a:gdLst/>
              <a:ahLst/>
              <a:rect l="l" t="t" r="r" b="b"/>
              <a:pathLst>
                <a:path w="1392" h="176">
                  <a:moveTo>
                    <a:pt x="0" y="32"/>
                  </a:moveTo>
                  <a:cubicBezTo>
                    <a:pt x="292" y="104"/>
                    <a:pt x="584" y="176"/>
                    <a:pt x="816" y="176"/>
                  </a:cubicBezTo>
                  <a:cubicBezTo>
                    <a:pt x="1048" y="176"/>
                    <a:pt x="1360" y="0"/>
                    <a:pt x="1392" y="32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1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5400" y="4952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are graphical model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cisely because they allows us to see different methods as instances of a broader probabilistic frame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put our model of expectation on a solid theoretical found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s put the formalisms on a well-founded mathematical ba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istinguish directed and undirected 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we concentrate on directed graphs that we can roll out over time easi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abilistic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rected 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idirected 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olling out over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family of graph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ttp://cosco.hiit.fi/Teaching/GraphicalModels/Fall2003/material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3343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resent  salient relationships graphically e.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shuttle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104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probabilistic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stic graphical model is a type of probabilistic network that has roots in AI, statistics and neural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clean mathematical formalism that makes it possible to understand the relationships between a wide variety of network based approaches to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see different methods as instances of a broader probabilistic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probabilistic graphical model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babilistic graphical models use graphs to represent and manipulate joint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s can b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ir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usually referred to as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elief networ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ayesia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s can b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ndir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usually referred to as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arkov Random 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asis for algorithms for compu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int probability – a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bability dependent on more than one variable e.g. p(AND|a,b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3657600"/>
          <a:ext cx="3505320" cy="197640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ND|a,b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gauss1" descr=""/>
          <p:cNvPicPr/>
          <p:nvPr/>
        </p:nvPicPr>
        <p:blipFill>
          <a:blip r:embed="rId1"/>
          <a:stretch/>
        </p:blipFill>
        <p:spPr>
          <a:xfrm>
            <a:off x="5502240" y="3521160"/>
            <a:ext cx="2362320" cy="227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5486400" y="3276360"/>
            <a:ext cx="0" cy="2514600"/>
          </a:xfrm>
          <a:prstGeom prst="line">
            <a:avLst/>
          </a:prstGeom>
          <a:ln w="316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5791320"/>
            <a:ext cx="2514600" cy="0"/>
          </a:xfrm>
          <a:prstGeom prst="line">
            <a:avLst/>
          </a:prstGeom>
          <a:ln w="316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297180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78760" y="5562720"/>
            <a:ext cx="3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2400" y="59436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crete case of a 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g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9720" y="5943600"/>
            <a:ext cx="37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continuous case wh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 values are high p(AND|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38640" y="2722320"/>
            <a:ext cx="490536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uitively, the notion of causality (although this can be a philosophical argument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, so the value of A directly determines the value of B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(A,B) = P(B|A).P(A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05120" y="2895480"/>
            <a:ext cx="990360" cy="2743200"/>
            <a:chOff x="1905120" y="2895480"/>
            <a:chExt cx="990360" cy="2743200"/>
          </a:xfrm>
        </p:grpSpPr>
        <p:sp>
          <p:nvSpPr>
            <p:cNvPr id="124" name=""/>
            <p:cNvSpPr/>
            <p:nvPr/>
          </p:nvSpPr>
          <p:spPr>
            <a:xfrm>
              <a:off x="1905120" y="2895480"/>
              <a:ext cx="990360" cy="9907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5120" y="4648320"/>
              <a:ext cx="990360" cy="9903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3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88620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ffic lights model from lecture 2 as a directed 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8960" y="2895480"/>
            <a:ext cx="4115160" cy="2895480"/>
            <a:chOff x="1218960" y="2895480"/>
            <a:chExt cx="4115160" cy="289548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3200040"/>
              <a:ext cx="3657600" cy="2590920"/>
              <a:chOff x="1676520" y="3200040"/>
              <a:chExt cx="3657600" cy="2590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764360" y="3529440"/>
                <a:ext cx="484560" cy="47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64360" y="4707360"/>
                <a:ext cx="484560" cy="4708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64360" y="4095000"/>
                <a:ext cx="484560" cy="47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76520" y="3388320"/>
                <a:ext cx="660960" cy="19317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076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72880" y="5320080"/>
                <a:ext cx="0" cy="47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74840" y="3435480"/>
                <a:ext cx="1850760" cy="1837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47600" y="320004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STOP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7316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91880" y="4942800"/>
                <a:ext cx="660960" cy="659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GO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66320" y="4000680"/>
                <a:ext cx="660960" cy="6591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367800">
                <a:off x="3526920" y="3481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4597400">
                <a:off x="4775400" y="379476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491200">
                <a:off x="4452840" y="5083920"/>
                <a:ext cx="219960" cy="188280"/>
              </a:xfrm>
              <a:prstGeom prst="leftArrow">
                <a:avLst>
                  <a:gd name="adj1" fmla="val 50000"/>
                  <a:gd name="adj2" fmla="val 292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4990800">
                <a:off x="3144600" y="4689720"/>
                <a:ext cx="235440" cy="176040"/>
              </a:xfrm>
              <a:prstGeom prst="leftArrow">
                <a:avLst>
                  <a:gd name="adj1" fmla="val 50000"/>
                  <a:gd name="adj2" fmla="val 3343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293200" y="3388320"/>
                <a:ext cx="1498320" cy="3297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248920" y="4330440"/>
                <a:ext cx="61668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2249280" y="4942800"/>
                <a:ext cx="1565280" cy="4708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2292840" y="3811680"/>
                <a:ext cx="2423880" cy="376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23560" y="4133160"/>
                <a:ext cx="573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GO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63080" y="4114800"/>
                <a:ext cx="6426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GET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READY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3366"/>
                    </a:solidFill>
                    <a:latin typeface="Times New Roman"/>
                  </a:rPr>
                  <a:t>TO STOP</a:t>
                </a:r>
                <a:endParaRPr b="0" lang="en-US" sz="9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572280" y="4527000"/>
                <a:ext cx="1152000" cy="2743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2249280" y="4424760"/>
                <a:ext cx="1321920" cy="376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34200" y="3200040"/>
                <a:ext cx="0" cy="2590920"/>
              </a:xfrm>
              <a:prstGeom prst="line">
                <a:avLst/>
              </a:prstGeom>
              <a:ln cap="rnd" w="50760">
                <a:solidFill>
                  <a:srgbClr val="3399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218960" y="289548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2040" y="2895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80240" y="3365640"/>
            <a:ext cx="7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477120" y="2971800"/>
            <a:ext cx="991080" cy="2819520"/>
            <a:chOff x="6477120" y="2971800"/>
            <a:chExt cx="991080" cy="2819520"/>
          </a:xfrm>
        </p:grpSpPr>
        <p:sp>
          <p:nvSpPr>
            <p:cNvPr id="158" name=""/>
            <p:cNvSpPr/>
            <p:nvPr/>
          </p:nvSpPr>
          <p:spPr>
            <a:xfrm>
              <a:off x="6934320" y="3962520"/>
              <a:ext cx="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4724280"/>
              <a:ext cx="990360" cy="106704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7120" y="2971800"/>
              <a:ext cx="990360" cy="9907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22480" y="329256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directed grap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280" y="2417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idden Markov Models (later in the cour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alman fil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ctor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dependent component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ixtures of Gaussians (later in the cour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babilistic expert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ist goes 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2:26:15Z</dcterms:modified>
  <cp:revision>57</cp:revision>
  <dc:subject/>
  <dc:title>Programming Techniques 804G5</dc:title>
</cp:coreProperties>
</file>